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B10E-73AA-4E9D-B78A-FD907DE97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1FD9-206D-47B7-A53B-1087290BD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D38A-B2D7-4270-8D8D-CC34BF95F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4E3F-3272-419C-BB2D-BF388C488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FCF76-CD88-49B6-B44F-9DC52070F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05534-A91D-424E-8C16-B9E5F4F1B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B9EE6-34ED-451C-B8E9-234A04991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EFE03-7455-4FAC-BFAE-A4C687D97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4248E-5269-4F4F-BC8F-96378402A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E1257-466A-4B9B-9C53-D639662EE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30176-96FF-4980-8164-8FDDC624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A52A-BB0B-43AA-8717-FC5A6282B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5EE7B-A997-4D5D-A70E-C5B86CBA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19D79-769E-411B-8A2B-BEAC4930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FE3C4-A8DE-49F5-A740-88E31065B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C5396-AE9E-4158-8B5E-30913EDBD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2BBC8-85A2-4E02-9452-F177BD93A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A5A6B-B8A4-4DEC-A723-0C55C96D4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9A666-2379-4D70-9BD6-B072E5690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AE7CE-818E-4648-9650-9EED8BBF3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244A2-E5DB-45D0-A24F-9C6FA1815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09EEA-CEE8-493B-AB19-9C88F95DE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8375-5B8F-4A32-80BB-C992F11A4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9DB2A-B4A8-4647-9A25-913057014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C3364-5402-4408-833B-775277F7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1148A-A62A-41A9-8E9B-0A50E9FC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C20AD-FBAE-41CC-8C0C-4E1F6054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167B9-4EAD-4FDF-904A-08E5BF341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DC224-BC4C-4FEF-997D-6FB916C65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ED5C0-5C14-453A-B780-6FDF4C357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CFB8F-5BAB-45E3-BBFB-06041EC75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E1FBC-04A5-4B7D-861D-AAD4C8538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21141-79C7-4BCE-8AB9-5DED94B74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F007-52C8-47C4-9666-386ACAEE5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1A5DF-107D-4A5F-94FB-BE0040501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2FDB7-241E-4D20-888F-E39B219C3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13D1F-1603-4799-ABB1-4E023455C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224E2-0DF5-4208-AF05-91B71136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16485-81C3-4BCE-B7C0-00404AD4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3518C-3DE2-42EF-8495-C0B2D69C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3C84B-480D-4A9B-85B4-5EC1D6341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D5F95-671B-4A2B-8C07-73CA9AF82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95DB1-7D92-4BCD-B2DD-DD52D57A6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8D60D-2B0D-43E2-ADCF-200E6FFCC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2BDB-3DFB-48C9-9467-2FEF10092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BF6F6-D319-4D59-BB22-0CA9FAEC2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1F7A8-4E4E-47C5-A5C9-A1ECBB56B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2061A-79B9-4DD9-82E1-033CF3A7E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54D0E1-90B5-4C03-A2AC-41581D60B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DEFC5-3A4B-4C4E-BFDE-868CCF2CA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DC4EB-6A8F-490F-9BAC-890C42A9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450B7-F059-4FC5-AA40-F0C5BA537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22AB9-2705-4866-B5E6-FE220511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D71F4-E302-460D-BBED-636D57F66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42AF3-7D1E-4CD9-AB8E-4432AC14D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A307-0927-433E-9FD5-6D6570E6D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D20F2-7375-4443-ADF7-D55D18D84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4A5B1-9F2C-48D7-9A2F-8A64C527E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CF1C33-F429-4779-AB48-D5B0E44BD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BEF95-4069-4AB0-B9B0-2244FC37A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35E71-BC17-4208-94F1-F910AA1DD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3C915C-8C5F-4244-9C3E-DE469E4F8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73A34-08F1-435E-930D-86E83D0D3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55C5A-A5B5-42AA-B4F5-2D0FB245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E2985-3712-4B58-BA1A-90E3E87B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4C70D-C7D5-4D05-9346-1F468AEB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EB84-2D0E-496E-B9B3-BA2CE736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78127-A806-4CAC-8C82-06D4185C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7B1785-DAFE-4486-BD5E-A02B8823C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5ABE6-7C0F-4BC6-BEA1-1DB79A55D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045A24-DA8C-4F13-8836-92DD466FB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145993-9E4B-416D-A6B9-E24226595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40EA29-9AF1-4323-B8BC-AA0D21EE6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BCFE3F-FF2E-4F30-8871-AED8F1195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C6FCBD-F6B6-4C68-A211-680AA5ED3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039765-90F7-499C-B5D5-581939137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6B748-3D00-4199-89A4-F8D7F9EF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3125-FFD2-4F1D-8EDA-CCE5E9CD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63EAD-C672-45CC-91EE-79DF30A7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90F7B-518F-4557-A248-39F82243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A8AE1E-B38B-4057-B087-FB0FA5BD6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12D356-FB3A-4EA7-B4D6-8FD63AB42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AA119-2318-4826-A63D-DCA4B0EC5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A856-F31B-4CD6-B771-8B5AAFD1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Kör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Ellipszis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Fánk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Fánk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Téglalap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AF24-AD71-41AA-9D37-5190AEFD27F4}" type="slidenum">
              <a:rPr b="0" lang="hu-HU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Téglalap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Kör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Ellipszis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Fánk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Fánk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Téglalap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églalap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Ellipszis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Ellipszis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Ellipszis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52496-BCE6-48B9-AFC4-4E53D3544AD8}" type="slidenum">
              <a:rPr b="0" lang="hu-HU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églalap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églalap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Ellipszis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Ellipszis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Ellipszis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50DD9-E043-42A1-A657-4587681972A3}" type="slidenum">
              <a:rPr b="0" lang="hu-HU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2A606-CFD5-4A98-B052-4777A015025F}" type="slidenum">
              <a:rPr b="0" lang="hu-HU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églalap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églalap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E5667-CB41-4423-9179-0670A7C558F4}" type="slidenum">
              <a:rPr b="0" lang="hu-HU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54DA6-C19A-4942-84B4-448FA94265CA}" type="slidenum">
              <a:rPr b="0" lang="hu-HU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Téglalap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Téglalap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olyamatábra: Feldolgozá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olyamatábra: Feldolgozá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8DC7B-3B11-48FB-A96A-26F497AEF95D}" type="slidenum">
              <a:rPr b="0" lang="hu-HU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Alcím 2" descr=""/>
          <p:cNvPicPr/>
          <p:nvPr/>
        </p:nvPicPr>
        <p:blipFill>
          <a:blip r:embed="rId1"/>
          <a:stretch/>
        </p:blipFill>
        <p:spPr>
          <a:xfrm>
            <a:off x="1504800" y="390600"/>
            <a:ext cx="7645680" cy="1530360"/>
          </a:xfrm>
          <a:prstGeom prst="rect">
            <a:avLst/>
          </a:prstGeom>
          <a:ln w="0">
            <a:noFill/>
          </a:ln>
        </p:spPr>
      </p:pic>
      <p:sp>
        <p:nvSpPr>
          <p:cNvPr id="319" name="Téglalap 3"/>
          <p:cNvSpPr/>
          <p:nvPr/>
        </p:nvSpPr>
        <p:spPr>
          <a:xfrm>
            <a:off x="1042920" y="2276640"/>
            <a:ext cx="7921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ill Sans MT"/>
              </a:rPr>
              <a:t>1990. február 22-én tette közzé az Európa Tanács a bűncselekmények áldozatainak chartáját, ez a nap azóta is számos országban – 1993. óta Magyarországon is -  az áldozatok napja. A rendőrség bűnmegelőzési szakemberei éppen ezért minden év februárjában kiemelt figyelmet fordítanak arra, hogy felhívják a lakosság figyelmét a bűncselekmények áldozatai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églalap 3"/>
          <p:cNvSpPr/>
          <p:nvPr/>
        </p:nvSpPr>
        <p:spPr>
          <a:xfrm>
            <a:off x="1187280" y="333360"/>
            <a:ext cx="748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ill Sans MT"/>
              </a:rPr>
              <a:t>A bűncselekmény áldozata</a:t>
            </a:r>
            <a:r>
              <a:rPr b="0" lang="hu-HU" sz="2800" spc="-1" strike="noStrike">
                <a:solidFill>
                  <a:srgbClr val="000000"/>
                </a:solidFill>
                <a:latin typeface="Gill Sans MT"/>
              </a:rPr>
              <a:t>: a bűncselekmény sértettje, illetve olyan személy, aki bizonyíthatóan a bűncselekmény közvetlen következtében szenvedett sérelmet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5" descr=""/>
          <p:cNvPicPr/>
          <p:nvPr/>
        </p:nvPicPr>
        <p:blipFill>
          <a:blip r:embed="rId1"/>
          <a:stretch/>
        </p:blipFill>
        <p:spPr>
          <a:xfrm>
            <a:off x="5791320" y="2708280"/>
            <a:ext cx="3352680" cy="3117960"/>
          </a:xfrm>
          <a:prstGeom prst="rect">
            <a:avLst/>
          </a:prstGeom>
          <a:ln w="0">
            <a:noFill/>
          </a:ln>
        </p:spPr>
      </p:pic>
      <p:sp>
        <p:nvSpPr>
          <p:cNvPr id="322" name="Téglalap 6"/>
          <p:cNvSpPr/>
          <p:nvPr/>
        </p:nvSpPr>
        <p:spPr>
          <a:xfrm>
            <a:off x="1258920" y="2421000"/>
            <a:ext cx="4249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ill Sans MT"/>
              </a:rPr>
              <a:t>Az áldozatsegítés célja</a:t>
            </a:r>
            <a:r>
              <a:rPr b="0" lang="hu-HU" sz="2800" spc="-1" strike="noStrike">
                <a:solidFill>
                  <a:srgbClr val="000000"/>
                </a:solidFill>
                <a:latin typeface="Gill Sans MT"/>
              </a:rPr>
              <a:t>: a bűncselekmények miatt anyagi, fizikai, pszichikai vagy jogsérelmet szenvedett személyek, azok közvetlen hozzátartozói megfelelő segítséget kapjanak problémáik megoldásához, jogaik érvényesítéséhe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églalap 6"/>
          <p:cNvSpPr/>
          <p:nvPr/>
        </p:nvSpPr>
        <p:spPr>
          <a:xfrm>
            <a:off x="1116000" y="620640"/>
            <a:ext cx="77770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ill Sans MT"/>
              </a:rPr>
              <a:t>A RENDŐRSÉG ÁLDOZATVÉDELMI FELADATA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ill Sans MT"/>
              </a:rPr>
              <a:t>Felvilágosítás az áldozatsegítő szolgáltatásokró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ill Sans MT"/>
              </a:rPr>
              <a:t>Az áldozatok személyiségi, adatvédelmi, büntetőeljárási jogainak érvényesítésében való segítségnyújt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ill Sans MT"/>
              </a:rPr>
              <a:t>Az eljárás különböző szakaszaiban való tájékoztat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ill Sans MT"/>
              </a:rPr>
              <a:t>Segítő szervezetek irányába történő közvetí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ill Sans MT"/>
              </a:rPr>
              <a:t>Az ismételt áldozattá válás kockázatának csökkent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églalap 6"/>
          <p:cNvSpPr/>
          <p:nvPr/>
        </p:nvSpPr>
        <p:spPr>
          <a:xfrm>
            <a:off x="2843280" y="1268280"/>
            <a:ext cx="59418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ill Sans MT"/>
              </a:rPr>
              <a:t>Haladéktalanul tegyen bejelentést az ingyenesen hívható 107-es vagy 112-es telefonszám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ill Sans MT"/>
              </a:rPr>
              <a:t>Összpontosítson arra, hogy az elkövetőről minél pontosabb személyleírás tudjon adn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ill Sans MT"/>
              </a:rPr>
              <a:t>Amennyiben eltulajdonították bankkártyáját, hitelkártyáját, vagy mobiltelefonját, azokat haladéktalanul tiltassa 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ill Sans MT"/>
              </a:rPr>
              <a:t>Ha a lakáskulcsot, gépkocsi kulcsot is elvitték, akkor cseréltesse le a zárak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2" descr="felkialtojel"/>
          <p:cNvPicPr/>
          <p:nvPr/>
        </p:nvPicPr>
        <p:blipFill>
          <a:blip r:embed="rId1"/>
          <a:stretch/>
        </p:blipFill>
        <p:spPr>
          <a:xfrm>
            <a:off x="1116000" y="1268280"/>
            <a:ext cx="1601640" cy="5392800"/>
          </a:xfrm>
          <a:prstGeom prst="rect">
            <a:avLst/>
          </a:prstGeom>
          <a:ln w="0">
            <a:noFill/>
          </a:ln>
        </p:spPr>
      </p:pic>
      <p:pic>
        <p:nvPicPr>
          <p:cNvPr id="326" name="Alcím 2" descr=""/>
          <p:cNvPicPr/>
          <p:nvPr/>
        </p:nvPicPr>
        <p:blipFill>
          <a:blip r:embed="rId2"/>
          <a:stretch/>
        </p:blipFill>
        <p:spPr>
          <a:xfrm>
            <a:off x="1255680" y="255600"/>
            <a:ext cx="764388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5" descr=""/>
          <p:cNvPicPr/>
          <p:nvPr/>
        </p:nvPicPr>
        <p:blipFill>
          <a:blip r:embed="rId1">
            <a:lum bright="50000"/>
          </a:blip>
          <a:stretch/>
        </p:blipFill>
        <p:spPr>
          <a:xfrm>
            <a:off x="1114560" y="0"/>
            <a:ext cx="8029440" cy="6858000"/>
          </a:xfrm>
          <a:prstGeom prst="rect">
            <a:avLst/>
          </a:prstGeom>
          <a:ln w="0">
            <a:noFill/>
          </a:ln>
        </p:spPr>
      </p:pic>
      <p:pic>
        <p:nvPicPr>
          <p:cNvPr id="330" name="Alcím 2" descr=""/>
          <p:cNvPicPr/>
          <p:nvPr/>
        </p:nvPicPr>
        <p:blipFill>
          <a:blip r:embed="rId2"/>
          <a:stretch/>
        </p:blipFill>
        <p:spPr>
          <a:xfrm>
            <a:off x="1255680" y="42840"/>
            <a:ext cx="7650360" cy="1157400"/>
          </a:xfrm>
          <a:prstGeom prst="rect">
            <a:avLst/>
          </a:prstGeom>
          <a:ln w="0">
            <a:noFill/>
          </a:ln>
        </p:spPr>
      </p:pic>
      <p:sp>
        <p:nvSpPr>
          <p:cNvPr id="331" name="Téglalap 6"/>
          <p:cNvSpPr/>
          <p:nvPr/>
        </p:nvSpPr>
        <p:spPr>
          <a:xfrm>
            <a:off x="1332000" y="3789360"/>
            <a:ext cx="669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ill Sans MT"/>
              </a:rPr>
              <a:t>VESZPRÉM MEGYEI KORMÁNYHIVA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ill Sans MT"/>
              </a:rPr>
              <a:t>GYÁMÜGYI ÉS IGAZSÁGÜGYI FŐOSZTÁ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ill Sans MT"/>
              </a:rPr>
              <a:t>IGAZSÁGÜGYI OSZTÁ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ill Sans MT"/>
              </a:rPr>
              <a:t>8200 Veszprém, Kossuth u. 10. 3. em. 30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ill Sans MT"/>
              </a:rPr>
              <a:t>Tel.: 88/590-3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6" descr="mo-logo"/>
          <p:cNvPicPr/>
          <p:nvPr/>
        </p:nvPicPr>
        <p:blipFill>
          <a:blip r:embed="rId3"/>
          <a:stretch/>
        </p:blipFill>
        <p:spPr>
          <a:xfrm>
            <a:off x="7740720" y="5013360"/>
            <a:ext cx="1046160" cy="1616040"/>
          </a:xfrm>
          <a:prstGeom prst="rect">
            <a:avLst/>
          </a:prstGeom>
          <a:ln w="0">
            <a:noFill/>
          </a:ln>
        </p:spPr>
      </p:pic>
      <p:sp>
        <p:nvSpPr>
          <p:cNvPr id="333" name="Téglalap 8"/>
          <p:cNvSpPr/>
          <p:nvPr/>
        </p:nvSpPr>
        <p:spPr>
          <a:xfrm>
            <a:off x="1619280" y="1700280"/>
            <a:ext cx="698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ill Sans MT"/>
              </a:rPr>
              <a:t>Áldozatvédelmi segítség és felvilágosítás miatt minél gyorsabban keresse fel az illetékes Megyei Kormányhivatal Igazságügyi Osztályát az alábbi elérhetősége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5" descr=""/>
          <p:cNvPicPr/>
          <p:nvPr/>
        </p:nvPicPr>
        <p:blipFill>
          <a:blip r:embed="rId1">
            <a:lum bright="50000"/>
          </a:blip>
          <a:stretch/>
        </p:blipFill>
        <p:spPr>
          <a:xfrm>
            <a:off x="1114560" y="0"/>
            <a:ext cx="8029440" cy="6858000"/>
          </a:xfrm>
          <a:prstGeom prst="rect">
            <a:avLst/>
          </a:prstGeom>
          <a:ln w="0">
            <a:noFill/>
          </a:ln>
        </p:spPr>
      </p:pic>
      <p:pic>
        <p:nvPicPr>
          <p:cNvPr id="337" name="Alcím 2" descr=""/>
          <p:cNvPicPr/>
          <p:nvPr/>
        </p:nvPicPr>
        <p:blipFill>
          <a:blip r:embed="rId2"/>
          <a:stretch/>
        </p:blipFill>
        <p:spPr>
          <a:xfrm>
            <a:off x="1255680" y="42840"/>
            <a:ext cx="7650360" cy="115740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1"/>
          <p:cNvSpPr/>
          <p:nvPr/>
        </p:nvSpPr>
        <p:spPr>
          <a:xfrm>
            <a:off x="1332000" y="1716120"/>
            <a:ext cx="734364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111111"/>
                </a:solidFill>
                <a:latin typeface="Arial"/>
                <a:ea typeface="Times New Roman"/>
              </a:rPr>
              <a:t>Veszprémi Áldozatsegítő</a:t>
            </a:r>
            <a:r>
              <a:rPr b="1" lang="hu-HU" sz="2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 </a:t>
            </a:r>
            <a:r>
              <a:rPr b="1" lang="hu-HU" sz="2800" spc="-1" strike="noStrike">
                <a:solidFill>
                  <a:srgbClr val="111111"/>
                </a:solidFill>
                <a:latin typeface="Arial"/>
                <a:ea typeface="Times New Roman"/>
              </a:rPr>
              <a:t>Ir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111111"/>
                </a:solidFill>
                <a:latin typeface="Arial"/>
                <a:ea typeface="Times New Roman"/>
              </a:rPr>
              <a:t>8200 Veszprém, Bajcsy Zsilinszky Endre u.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111111"/>
                </a:solidFill>
                <a:latin typeface="Arial"/>
                <a:ea typeface="Times New Roman"/>
              </a:rPr>
              <a:t>Vitéz utcai bejárat, Megyei Rendőr Főkapitányság Épü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111111"/>
                </a:solidFill>
                <a:latin typeface="Arial"/>
                <a:ea typeface="Times New Roman"/>
              </a:rPr>
              <a:t>Ügyfélfogadás: </a:t>
            </a:r>
            <a:r>
              <a:rPr b="1" lang="hu-HU" sz="2400" spc="-1" strike="noStrike">
                <a:solidFill>
                  <a:srgbClr val="111111"/>
                </a:solidFill>
                <a:latin typeface="Arial"/>
                <a:ea typeface="Times New Roman"/>
              </a:rPr>
              <a:t>kedd, csütörtök: 16-17 óráig</a:t>
            </a:r>
            <a:br>
              <a:rPr sz="2400"/>
            </a:br>
            <a:r>
              <a:rPr b="1" lang="hu-HU" sz="2400" spc="-1" strike="noStrike">
                <a:solidFill>
                  <a:srgbClr val="111111"/>
                </a:solidFill>
                <a:latin typeface="Arial"/>
                <a:ea typeface="Times New Roman"/>
              </a:rPr>
              <a:t>Irodavezető: Kovácsné Üveges Gabriella</a:t>
            </a:r>
            <a:br>
              <a:rPr sz="2400"/>
            </a:br>
            <a:r>
              <a:rPr b="1" i="1" lang="hu-HU" sz="2400" spc="-1" strike="noStrike">
                <a:solidFill>
                  <a:srgbClr val="111111"/>
                </a:solidFill>
                <a:latin typeface="Arial"/>
                <a:ea typeface="Times New Roman"/>
              </a:rPr>
              <a:t>Telefon:</a:t>
            </a:r>
            <a:r>
              <a:rPr b="1" lang="hu-HU" sz="2400" spc="-1" strike="noStrike">
                <a:solidFill>
                  <a:srgbClr val="111111"/>
                </a:solidFill>
                <a:latin typeface="Arial"/>
                <a:ea typeface="Times New Roman"/>
              </a:rPr>
              <a:t> 06/30-66-77-750 és 06/20 501 9728 (sürgős esetekb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111111"/>
                </a:solidFill>
                <a:latin typeface="Arial"/>
                <a:ea typeface="Times New Roman"/>
              </a:rPr>
              <a:t>E-mail:</a:t>
            </a:r>
            <a:r>
              <a:rPr b="1" lang="hu-HU" sz="2400" spc="-1" strike="noStrike">
                <a:solidFill>
                  <a:srgbClr val="111111"/>
                </a:solidFill>
                <a:latin typeface="Arial"/>
                <a:ea typeface="Times New Roman"/>
              </a:rPr>
              <a:t> </a:t>
            </a:r>
            <a:r>
              <a:rPr b="1" lang="hu-HU" sz="2400" spc="-1" strike="noStrike">
                <a:solidFill>
                  <a:srgbClr val="00b0f0"/>
                </a:solidFill>
                <a:latin typeface="Arial"/>
                <a:ea typeface="Times New Roman"/>
              </a:rPr>
              <a:t>fehergyuruveszprem@gmail.c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2" descr="fgy"/>
          <p:cNvPicPr/>
          <p:nvPr/>
        </p:nvPicPr>
        <p:blipFill>
          <a:blip r:embed="rId3"/>
          <a:stretch/>
        </p:blipFill>
        <p:spPr>
          <a:xfrm>
            <a:off x="5003640" y="5157720"/>
            <a:ext cx="1584360" cy="14763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3" descr="223431_149629991773963_6026379_n"/>
          <p:cNvPicPr/>
          <p:nvPr/>
        </p:nvPicPr>
        <p:blipFill>
          <a:blip r:embed="rId4"/>
          <a:stretch/>
        </p:blipFill>
        <p:spPr>
          <a:xfrm>
            <a:off x="7164360" y="5084640"/>
            <a:ext cx="155736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02T06:40:19Z</dcterms:created>
  <dc:creator>Police</dc:creator>
  <dc:description/>
  <dc:language>en-US</dc:language>
  <cp:lastModifiedBy>Police</cp:lastModifiedBy>
  <dcterms:modified xsi:type="dcterms:W3CDTF">2016-02-02T08:29:53Z</dcterms:modified>
  <cp:revision>10</cp:revision>
  <dc:subject/>
  <dc:title>1. dia</dc:title>
</cp:coreProperties>
</file>